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4C8-E771-45EB-8E24-2F065E48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DD0-4215-49CD-857F-0964E5BA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259-F6CF-426A-B405-8A60A167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C0C-E8A0-4E93-B953-0D03E673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6142-EB76-47D8-B66B-CC020F16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E4C7-156B-4875-8B88-1BF3001C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71B4-D34F-4BE7-894D-57F53D0C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6967-6544-45BE-ADFA-58ECA408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2354-B312-4530-935E-D5973E8F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5BC4-B3DE-4D65-8E25-71F8DFD7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1C0B-987B-4AD8-88CD-FE13E7EB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B6F-E974-470B-988A-D4909F6D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1A0F-2343-4A76-959E-B7487761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E94B-2D01-474A-8F4F-154D16DB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36E9-69F4-4D45-B6D8-41215292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071C-4550-46E7-97E7-1424738C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C3B3-F6F7-41EE-8876-CE5820C0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92E-C882-4E95-8ADB-F1179A1B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BD8-8E78-417E-B22A-16069205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07D-1DF7-42B6-BC04-9A0B5A3E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B75-5364-4F73-95F0-0B67326B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63C-C778-4DE2-A681-8560B430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B75-CB7F-4BDF-9E83-CC762212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B63-EE00-4A8F-9EFA-48F9A5D1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BD46-7064-4651-B022-BC01EF8FA6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D3FA-1A58-4E44-83E2-207D298B85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dbbd71"/>
                </a:solidFill>
                <a:latin typeface="Arial"/>
              </a:rPr>
              <a:t>Alternatives to Prison Conference </a:t>
            </a:r>
            <a:br>
              <a:rPr sz="4800"/>
            </a:br>
            <a:r>
              <a:rPr b="0" i="1" lang="en-US" sz="4800" spc="-1" strike="noStrike">
                <a:solidFill>
                  <a:srgbClr val="dbbd71"/>
                </a:solidFill>
                <a:latin typeface="Arial"/>
              </a:rPr>
              <a:t>Encounter/RSE</a:t>
            </a:r>
            <a:br>
              <a:rPr sz="4800"/>
            </a:br>
            <a:r>
              <a:rPr b="0" i="1" lang="en-US" sz="4800" spc="-1" strike="noStrike">
                <a:solidFill>
                  <a:srgbClr val="dbbd71"/>
                </a:solidFill>
                <a:latin typeface="Arial"/>
              </a:rPr>
              <a:t>Edinburgh, 7-9 Dec 2006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Whither the Golden Threa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laire Hamil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ublin Institute of Techn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amilton@dit.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esumption of Innocen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cus today on effects of recent English and Irish legislation on presumption of innocence. Is the presumption being deprived of its tangible effect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ny Blair, June 2002: “It is perhaps the biggest miscarriage of justice in today’s system when the guilty walk away unpunished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rguments in favour of the presumption of innocenc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ubjective ha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ral harms (Dworki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yths of the “other” and of “the benign State” (Kenned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ffectiveness of ero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English Criminal Justice Act 2003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agship legislation to “rebalance system in favour of victim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umption of Innocence and bad character rules (Part 11, s.101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umption of Innocence and double jeopardy rules (Part 10, ss.78 &amp; 7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Bad Character Ru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rom PV v. PE to “general tendency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ad character=misconduct=other reprehensible behavi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asoning Prejud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ral Prejud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mpirical support: Lloyd-Bostock (20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trial for Serious Offenc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ad definition of “qualifying offenc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and compelling evidence”= “reliable, substantial and highly probative of guilt” (s.7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ry mere rubberstam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’s response to stifle media cove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rish Criminal Justice Act 2006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cDowell: “Balance shifted too far in favour of accuse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lsh: “Completing a crime control mode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ntion provisions, limited prosecution appeal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BOs (“Civil orders/behaviour orders”) and Presumption of Innoc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proposals for victims: curtail right to silence; bad character evid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ivil Orders/Behaviour Orders (ASBOs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brid structure of orders disguising criminal ac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 v. McCann-HOL designated civ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erficial reading focusing on form not sub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vious acts TIC when sentenc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doxical conclusion-civil yet “seriousness of matters involved” mandates criminal S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Proposed Law Reforms to Rebalance the System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tail the right to silence through adverse inferences: consequent shift of focus to accus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d Character:  as seen above, conjures up a prejudicial atmosphere (R v. Per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llifying an acquittal in certain circumstan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ither the Golden Threa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s it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al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for  accused persons in the UK and Ireland? Kilcommins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et al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(2004): Irish due process rights have a “look but do not touch; touch but do not taste” qua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shworth and Blake (1996): 40% of Crown Court offences offend the presump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hakrabati (2005): “The presumption…like innocence itself, is more easily compromised than reclaimed.  It seems to me that we would not be living with the chilling spectre of the anti-terror ‘control order’ if we had been more critical of his older cousin, the ASBO”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20:16:51Z</dcterms:created>
  <dc:creator>user</dc:creator>
  <dc:description/>
  <dc:language>en-US</dc:language>
  <cp:lastModifiedBy>Rick Lines</cp:lastModifiedBy>
  <dcterms:modified xsi:type="dcterms:W3CDTF">2006-12-14T11:03:31Z</dcterms:modified>
  <cp:revision>11</cp:revision>
  <dc:subject/>
  <dc:title>Justice in Transition</dc:title>
</cp:coreProperties>
</file>